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051-4636-445B-BB9D-7DECFBFE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A6C-F53F-4478-9CF8-3B0383EC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A29-AEF1-4473-85AE-8D9BE10F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EB7-861F-4DC7-8F93-F93258B3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49D-E511-4DD8-A9DC-0FC11B8A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A62-8251-4342-A6E5-E4D28AA1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97D-7A19-40A2-AE56-4A0CB15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EE9-11ED-4C22-979D-C17ED550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CCB-4020-4485-8F8F-1EFBF992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532-8A32-4906-8942-AFDDB710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8D4-1A4E-4FE7-B654-A4279BDA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F95-6603-4E2C-94D4-4043CBD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A736-7F0C-4B8C-BD26-3093F14C7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4365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Evaluation of Digital Tech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oretical Evalua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stion 1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fessionalism on a budg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41200"/>
            <a:ext cx="843588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es your use of digital technology compare to production of real media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16-19 year olds you are not expected to be able to replicate what professional media institutions can do…or ha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x’s idea of the means of production being used by the dominant ideology to keep the masses oppressed is increasingly becoming a redundant theory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cheap, efficient technology is accessible to most of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we are able to produc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at could pass for professional, particularly pri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do we think this is the same case for the A2 trail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aves and have not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aspect of digital technology you might need to discuss and evaluate –without moaning – is the quality of technology you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sions of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y of cameras (pixel ratios, SLR or compact, HD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2.0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notes on question 5 and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has your use of digital hardware technology developed between AS and A2 Med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is digital techn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technology enables immense amounts of information to be compressed on small storage devices that can be easily preserved and transpor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ization also quickens data transmission sp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ized information is recorded in binary code of combinations of the digits 0 and 1, also called bits, which represent words and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has digital technology enabled us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technology has transformed how people communicate, learn, and 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lso transformed the way media can be researched, created, distributed and vi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member AS music industry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the music industry topic many key terms and theories were discussed with regards to digital technology…lets have a quick t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igital tech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“Convergenc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‘digital zeitgeist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technophile and a technopho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prolif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compression technology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‘means of production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web 2.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‘user generated content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ms of digital techn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7472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various forms of digital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rdware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quipment such as cameras, DV cameras, mobile phones and of course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photo manipulation, design, editing, desk top publishing, presentational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b 2.0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arch engines, user generated sites, social media sites, fan sites, institutional sites, review sites, email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digital te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rainstorm and make notes in your bookle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ll the digital technology you have used during AS and A2 Media Studies. Split it into 3 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-production research and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ion/co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-production and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on- digital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easy to assume that in 2011 all research, construction and post-production work is produced solely with digital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what non-digital technology did you use during AS and A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copies of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m and film trailers on TV/cinema/DV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ncil sketching and storybo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digital tech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echnically skilled were you before you began the cour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e yourself out of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ember what we said about creativity and technical pro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picked up skills from other subjects? If so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notes in book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ills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were the skills learnt at AS useful in A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ility to us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ility to use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ments in using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 a technophile of technopho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notes in book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2:50:24Z</dcterms:created>
  <dc:creator>#</dc:creator>
  <dc:description/>
  <dc:language>en-US</dc:language>
  <cp:lastModifiedBy>ms</cp:lastModifiedBy>
  <dcterms:modified xsi:type="dcterms:W3CDTF">2011-03-31T12:24:01Z</dcterms:modified>
  <cp:revision>2</cp:revision>
  <dc:subject/>
  <dc:title>Evaluation of Digital Technology </dc:title>
</cp:coreProperties>
</file>